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B97D-EFAA-4A03-AEC2-1CA477697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0BE6-4D9E-488B-B736-E2344CD8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88A5-9B78-490D-83A9-1B4AA2472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C644-106D-4605-B198-8A9457ED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0011-B9DD-4C02-A1EB-F204AFFE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7A08-F932-4345-9116-DC4733AA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2ACA-E05E-4A19-B448-50442C8C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4D53-9D08-4B07-979A-CE0CC229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28DA-089E-48B8-92F8-120DE8E2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D8CA-2B67-429B-B7D9-D700F6AC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3A45-C879-4024-A31C-A5A71AD5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C425-7B1E-4408-AD85-A463CDF0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2E9F-D31B-4A9C-8BDC-C1409EBB5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ÁGENES DE CUL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as siguientes Imágenes pueden traer nostalgia y recuerdos a su cab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2916360" cy="6264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64000" y="0"/>
            <a:ext cx="274176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97160" y="851040"/>
            <a:ext cx="6349680" cy="51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376360" y="404640"/>
            <a:ext cx="439128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55640" y="2108160"/>
            <a:ext cx="77040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86160" y="333360"/>
            <a:ext cx="41241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241280"/>
            <a:ext cx="4098960" cy="5616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11600" y="0"/>
            <a:ext cx="45324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87600" y="836640"/>
            <a:ext cx="44006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90600" y="1666800"/>
            <a:ext cx="476280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4002120" cy="6119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26000" y="1557360"/>
            <a:ext cx="45180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62440" cy="3933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356000" y="3267000"/>
            <a:ext cx="47880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87280" y="423720"/>
            <a:ext cx="676944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9320" cy="5373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486400" y="1587600"/>
            <a:ext cx="365760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90600" y="2209680"/>
            <a:ext cx="47628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64000" cy="3284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670200" y="2752560"/>
            <a:ext cx="54738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84720" cy="4284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772160" y="2095560"/>
            <a:ext cx="43718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62440" cy="3724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788000" y="2771640"/>
            <a:ext cx="435600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730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533920" y="2095560"/>
            <a:ext cx="36100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97160" y="1562040"/>
            <a:ext cx="6349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58920" y="1293840"/>
            <a:ext cx="691344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76360" y="1106640"/>
            <a:ext cx="597528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48080" y="380880"/>
            <a:ext cx="40478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932360" y="836640"/>
            <a:ext cx="4516560" cy="6021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-324000" y="0"/>
            <a:ext cx="430056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203720" y="2671920"/>
            <a:ext cx="4940280" cy="4186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77208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190600" y="1843200"/>
            <a:ext cx="47628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4067280" cy="3481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40360" y="3429000"/>
            <a:ext cx="50036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381560" y="3305160"/>
            <a:ext cx="4762440" cy="3552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1636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3880" y="447840"/>
            <a:ext cx="6096240" cy="59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03640" y="0"/>
            <a:ext cx="4140360" cy="3309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501156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58920" y="665280"/>
            <a:ext cx="676908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84360" y="620640"/>
            <a:ext cx="411948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74840" y="404640"/>
            <a:ext cx="45403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4:43:18Z</dcterms:created>
  <dc:creator/>
  <dc:description/>
  <dc:language>en-US</dc:language>
  <cp:lastModifiedBy>informatica1</cp:lastModifiedBy>
  <dcterms:modified xsi:type="dcterms:W3CDTF">2006-11-22T16:26:35Z</dcterms:modified>
  <cp:revision>13</cp:revision>
  <dc:subject/>
  <dc:title>Diapositiva 1</dc:title>
</cp:coreProperties>
</file>